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18B-0468-4586-85E7-F01049F4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016-90B5-4AC9-B649-BA01426C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25D-05D6-4027-9CF2-87F55576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AF6-4D79-4058-97F9-F3930F3C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1FB-C39F-4A91-8EFD-4032A768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421-378C-480E-AD98-D2A9D41B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CD6-7984-4DDE-8999-5AAE772D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0F5-423C-447A-99CC-8B2A276C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2E0-E51B-4F17-9854-149ABDEF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87B-57A2-4AE0-B7CD-DF0AFB41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50F-4A3E-4091-94B8-CA25C79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261-17D2-4C0A-974C-1F535274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B977-AFA0-48D7-A8EA-B0C11D406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chantedlearning.com/usa/states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ermi.jhuapl.edu/states/maps1/tn.gi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ostcardsfrom.com/t1/arcin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50292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thew Alejan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1600200"/>
            <a:ext cx="39625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6b8dc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Bauhaus 93"/>
              </a:rPr>
              <a:t>TENNESSE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6b8dc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Bauhaus 93"/>
              <a:ea typeface="Bauhaus 93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715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7680" y="6132600"/>
            <a:ext cx="435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880" y="6284880"/>
            <a:ext cx="60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cky top song  I got this from the Fifty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ennes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50states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534240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gradFill rotWithShape="0">
            <a:gsLst>
              <a:gs pos="0">
                <a:srgbClr val="00dfda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es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h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17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and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king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y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d from an anglicized spelling of a Cherokee 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b8dc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968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133720"/>
            <a:ext cx="769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133720"/>
            <a:ext cx="458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about Tennes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p describes  the capital ,cities ,state, mountains , state boundary , water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pa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0" y="5715000"/>
            <a:ext cx="566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got this picture from  Enchanted learning, Tennes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nchantedLearning.com/usa/stat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09f7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2000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505320"/>
            <a:ext cx="9007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9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rmi.jhuapl.edu/states/maps1/tn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81080"/>
            <a:ext cx="456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map shows the degrees and  I got this from Longitude . States maps Tennes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09f7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 Nashville Capitol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80060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 picture of Nashville the capital of Tennessee I got this picture from Postcards 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-2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" y="5638680"/>
            <a:ext cx="45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7Z</dcterms:created>
  <dc:creator>install</dc:creator>
  <dc:description/>
  <dc:language>en-US</dc:language>
  <cp:lastModifiedBy>install</cp:lastModifiedBy>
  <dcterms:modified xsi:type="dcterms:W3CDTF">2011-10-27T13:42:33Z</dcterms:modified>
  <cp:revision>14</cp:revision>
  <dc:subject/>
  <dc:title>Slide 1</dc:title>
</cp:coreProperties>
</file>